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  <p:custShowLst>
    <p:custShow name="Chapter" id="0">
      <p:sldLst>
        <p:sld r:id="rId13"/>
        <p:sld r:id="rId15"/>
        <p:sld r:id="rId17"/>
        <p:sld r:id="rId16"/>
      </p:sldLst>
    </p:custShow>
    <p:custShow name="ELI Sect 1" id="1">
      <p:sldLst>
        <p:sld r:id="rId4"/>
        <p:sld r:id="rId5"/>
        <p:sld r:id="rId6"/>
        <p:sld r:id="rId7"/>
        <p:sld r:id="rId8"/>
        <p:sld r:id="rId9"/>
        <p:sld r:id="rId10"/>
        <p:sld r:id="rId11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</p:sldLst>
    </p:custShow>
    <p:custShow name="ELI Sect 2" id="2">
      <p:sldLst>
        <p:sld r:id="rId3"/>
      </p:sldLst>
    </p:custShow>
    <p:custShow name="ELI Sect 3" id="3">
      <p:sldLst>
        <p:sld r:id="rId13"/>
        <p:sld r:id="rId15"/>
        <p:sld r:id="rId17"/>
        <p:sld r:id="rId16"/>
      </p:sldLst>
    </p:custShow>
    <p:custShow name="ELI Sect 4" id="4">
      <p:sldLst>
        <p:sld r:id="rId16"/>
      </p:sldLst>
    </p:custShow>
    <p:custShow name="ELI STP" id="5">
      <p:sldLst>
        <p:sld r:id="rId10"/>
        <p:sld r:id="rId25"/>
        <p:sld r:id="rId6"/>
        <p:sld r:id="rId9"/>
        <p:sld r:id="rId26"/>
        <p:sld r:id="rId12"/>
      </p:sldLst>
    </p:custShow>
    <p:custShow name="Bellringers" id="6">
      <p:sldLst>
        <p:sld r:id="rId13"/>
      </p:sldLst>
    </p:custShow>
    <p:custShow name="VIs Con" id="7">
      <p:sldLst>
        <p:sld r:id="rId25"/>
      </p:sldLst>
    </p:custShow>
    <p:custShow name="Chapter menu" id="8">
      <p:sldLst>
        <p:sld r:id="rId4"/>
        <p:sld r:id="rId5"/>
        <p:sld r:id="rId6"/>
        <p:sld r:id="rId7"/>
        <p:sld r:id="rId8"/>
        <p:sld r:id="rId9"/>
        <p:sld r:id="rId10"/>
        <p:sld r:id="rId11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3"/>
      </p:sldLst>
    </p:custShow>
    <p:custShow name="Test Prep" id="9">
      <p:sldLst>
        <p:sld r:id="rId26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e of the Su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’s Energ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ar Fus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 Changing into Energ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’s Interio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’s Atmospher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the Su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uclear Fusio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65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ss Changing into Energ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’s energy comes from fusion, and the mass that is lost during fusion becomes energ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05, Albert Einstein proposed that a small amount of matter yields a large amount of energy.  This proposal was part of Einstein’s special theory of relativit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theory included the equation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 = mc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ass Changing into Energ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instein’s equa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 = mc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s energy produced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s the mass;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s the speed of light, which is about 300,000 km/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nstein’s equation can be used to calculate the amount of energy produced from a given amount of mat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using Einstein’s equation, astronomers were able to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ading check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id the equa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 = mc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scientists understand  the energy of the sun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Einstein’s equation helped scientists understand the source of the sun’s energy. The equation explained how the sun could produce huge amounts of energy without burning up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Interio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Cor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ful studies of motions on the sun’s surface have supplied more detail about what is happening inside the sun. The parts of the sun include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center of the sun is the core. The core makes up 25% of the sun’s total diameter of 1,390,000 km. The temperature of the core is about 15,000,000 ºC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re is made up entirely of ionized gas, and is 10 times as dense as ir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Radiative Zon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adiative z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diative zone of the sun surrounds the cor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emperature of the radiative zone ranges from about 2,000,000ºC to 7,000,000 ºC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radiative zone,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Convective Zon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vective z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nvective zone surrounds the radiative zone.  The temperature of the convective zone is about 2,000,000ºC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1952640" y="2066760"/>
            <a:ext cx="5238720" cy="38768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layers of the su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Atmospher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’s atmosphere surrounds the  convective zone of the sun’s co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 sun is made of gases, the term atmosphere refers to *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’s atmosphere has three layers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Atmospher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Photospher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2640" indent="-3326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otosph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2640" indent="-3326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hotosp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ans “sphere of light.” The photosphere of the sun is the innermost layer of the sun’s atmosphe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2640" indent="-3326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hotosphere is made of gases that have risen from the convective zone. The temperature in the photosphere is about 6,000ºC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2640" indent="-332640"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of the energy given off from the photosphere is in the form of visible l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sun converts matter into energy in its co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diative and convective zones of the su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layers of the sun’s atmosphe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Atmospher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ading Check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layers make up the sun’s atmosphere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sun’s atmosphere consists of the photosphere, the chromosphere, and the corona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Atmospher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Chromospher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hromosph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romosphere lies just above the photosphere. The chromosphere’s temperature ranges from 4,000°C to 50,000 °C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ases of the chromosphere move away from the photosphere, forming narrow jets of hot gas that shoot outward and then fade away within a few minut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Atmospher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Sun’s Outer Par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ro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rona is a huge region of gas that has a temperature above 1,000,000ºC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corona expands,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particles make up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Atmospher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3" name="Picture 11" descr="80319"/>
          <p:cNvPicPr/>
          <p:nvPr/>
        </p:nvPicPr>
        <p:blipFill>
          <a:blip r:embed="rId1"/>
          <a:stretch/>
        </p:blipFill>
        <p:spPr>
          <a:xfrm>
            <a:off x="2286000" y="1971720"/>
            <a:ext cx="4572000" cy="36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ructure of the Su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5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Energ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osition of the Su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 lines form in the spectra of stars when gases in the stars’ outer layers absorb specific wavelengths of the light that passes through the layer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tudying the spectrum of a star, scientists can determine the amounts of elements that are present in a star’s atmospher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Composition of the Sun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cause each element produces a unique pattern of spectral lines, astronomers can match the spectral lines of starlight to those of Earth’s elements, and identify the elements in the star’s atmosphere.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hydrogen and helium occur in the sun. About 75% of the sun’s mass is hydrogen, and hydrogen and helium together make up about 99% of the sun’s mass. 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3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un’s spectrum reveals that the sun contains traces of almost all other chemical elements.</a:t>
            </a:r>
            <a:endParaRPr b="0" lang="en-US" sz="2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clear Fus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clear fu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ar fusion occurs inside the sun. Nuclei of hydrogen atoms are the primary fuel for the sun’s fusion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clear fusion produces most of the suns’ energy and consists of three step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clear Fus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first step, two hydrogen nuclei,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t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ollide and fuse. In this step, the positive charge of one of the protons is neutralized as that proton emits a particle called a positr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esult, the proton becomes a neutron and changes the original two protons into a proton-neutron pai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uclear Fusio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econd step, another proton combines with this proton-neutron pair to produce a nucleus made up of two protons and one neutr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third step, two nuclei made up of two protons and one neutron collide and fus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is fusion happens, two protons are released. The remaining two protons and two neutrons are fused together and form a helium nucleus. At each step, energy is released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nuclear fus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1" name="Picture 1031" descr=""/>
          <p:cNvPicPr/>
          <p:nvPr/>
        </p:nvPicPr>
        <p:blipFill>
          <a:blip r:embed="rId1"/>
          <a:stretch/>
        </p:blipFill>
        <p:spPr>
          <a:xfrm>
            <a:off x="1424160" y="2238480"/>
            <a:ext cx="6295680" cy="36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Sun’s Energy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Final Produc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of the final products of the fusion of hydrogen in the sun is always a helium nucleu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elium nucleus has about 0.7% less mass than the hydrogen nuclei that combined to form it do. The lost mass is converted into energy during the series of fusion reactions that forms heliu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5-14T15:15:47Z</dcterms:modified>
  <cp:revision>631</cp:revision>
  <dc:subject/>
  <dc:title>No Slide Title</dc:title>
</cp:coreProperties>
</file>